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E50-620B-467E-A71E-B1A011B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A4C-E8BD-40C2-BC8E-AA5E3144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941-A73B-4275-8D5B-F14D43C1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1F4-EA02-4ED7-AD72-083BD53A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A0C-722D-4BA9-810E-77757BD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3AF-835F-45D0-84A5-3A079CE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C1C-BC2E-45CE-B6A4-B877696F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FAF-F30B-416F-B88D-BD4E3382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6EC-AA15-440F-82C3-4216CBF0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14E-ABFF-46E8-8DA7-75025F3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81F-62FC-4AA9-AD9D-A11861E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10C-2CA0-45C3-96A6-DE7C7E20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C813-5E7A-48A5-BCCF-55E83C9EF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sû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5 Pour sur.m4a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914400" y="6858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vite déniché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vrai que toi tu l'savais bi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 mon cœur, j'l'avais sur la m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23760" y="60199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uneart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685800"/>
            <a:ext cx="929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comme je suis frivol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un cœur d'artichaud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us la bri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l s'envol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sais que c'n'est pas bea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9560" y="565776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 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envo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to f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14400" y="68580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s feuilles, une à un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 les voyant tombe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combl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'infortu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les as piétinées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925920" y="5646600"/>
            <a:ext cx="29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The utmost, the 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tram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14400" y="685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 mon cœur est en deuil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pleuré sur mes feuil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28800" y="60199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 deuil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o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14400" y="6858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n'y peux rien, j'ai l'âm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rop généreu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un cœur pour les familles nombreus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était clair comme du ver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12240" y="6014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’am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914400" y="6858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allait voir à travers. T'es sourde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toi tu m'as tout piétiné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en as fait du verre pilé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99000" y="60199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cru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914400" y="685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ute ma raison s'égar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enfan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la douleu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lle sensation bizar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nd on a plus de cœ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85280" y="5646600"/>
            <a:ext cx="49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égar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ose one’s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enfant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ive birth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91440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Ça me fait un grand v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de mes deux beaux seins,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n'ai plus qu'un saint Plac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une marqu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à sein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5560" y="5257800"/>
            <a:ext cx="362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nd , token, 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 sein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14400" y="685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l'histoire de mon cœu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i finit dans l'malhe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re amour est une barqu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n détress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a falloir lancer le S.O.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fallait qu'ça arr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013400" y="60199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 a barge or b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{Parlé:}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ici un beau tango-duo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une histoire assez malheureus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re Lui et Ell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ce que Lui il est frivol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Elle, Elle s'en était bi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erçue qu'il était frivo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vais à la dériv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ieu la vie et l'aven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33480" y="6014880"/>
            <a:ext cx="36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dériv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r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7621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{Parlé:} Oui mais heureusement... que Fluctuat nec mergitu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us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i... si tu me red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"Qu'est-ce que tu dis ?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vais finir par te l'dire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vas voir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631800" y="556272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in expression mea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ssed by the seas but doesn’t sin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14400" y="6858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, comme lui, au fond, Il est malheureux d'êtr' frivol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veut lui expliquer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Elle, ell' comprend pas parce qu'elle est sourd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19440" y="60199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de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14400" y="6858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ors elle lui dit toujours 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"Qu'est-ce que tu dis ?"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c'est pour ça qu'c'est difficile car il faut que je fasse à la fois la voix de Lui et la voix d'Elle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j'vais le faire quand mêm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ce que quand on est artist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faut faire tous les genre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685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vu tes yeux de brai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 pied d'une meule de foin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revenais des frai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moi d'l'herbe aux lapi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13680" y="56466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g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hay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14400" y="6858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t'ai dis "il fait chaud"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répondis "Pour sûr"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en avais dit trop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Ça m'a fait une morsur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93960" y="60958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b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14400" y="6858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t'ai pas offert de fleu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j't'ai montré mon cœ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1005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pris dans tes p'tites mains légè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e un p'tit papillon de Bruyè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pris sans chercher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54:07Z</dcterms:created>
  <dc:creator>Angie</dc:creator>
  <dc:description/>
  <dc:language>en-US</dc:language>
  <cp:lastModifiedBy>Angie</cp:lastModifiedBy>
  <dcterms:modified xsi:type="dcterms:W3CDTF">2011-11-15T23:35:36Z</dcterms:modified>
  <cp:revision>5</cp:revision>
  <dc:subject/>
  <dc:title>Pour sûr</dc:title>
</cp:coreProperties>
</file>